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8456-849C-4558-9E92-F28E765C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3FF-3231-4046-B0E1-150B621C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B064-5613-4AD4-8C56-32FFDA5C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023-DC51-43C1-B58B-F04E2863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299-3CA8-478E-9D8E-7463FCC0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98B-B860-4258-A416-970F281D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667-B359-4274-9E00-256580DD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D9B6-ACEB-4530-BEA6-FC6171DE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24B0-60D1-4780-8386-1F3D8449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C3ED-320A-40C1-8653-8F4B79CF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E0AF-FC84-4E54-B5DC-E7915EEC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C138-B082-4160-B002-330840C1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FF91-FFBF-47DE-86C6-DA4C48040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Me llamo ___________ Clase 6nh</a:t>
            </a:r>
            <a:br>
              <a:rPr sz="3800"/>
            </a:b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La fecha es el 22 de abril del 20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53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ta tu amigo ho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completa las oraciones con el verbo ‘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r’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o ‘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ar’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rena _______ muy bonita y có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iana y yo ___________ conte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 un muy buen alum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linda y Lucas _________  enfer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no_________ antipático pero hoy yo _________ de mal hum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r y estar—caracteristica y condicion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Characteristics and Condi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has 2 ways of saying TO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:   SER and ESTAR. Each of these verbs has VERY DIFFERENT 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 expresses a trait or a characteristic that doesn’t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muchacho ES moreno. Él ES muy sin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edificio ES muy al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151920"/>
            <a:ext cx="876276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R expresses a temporary state or conditon; a fee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an no ESTA bien hoy. ESTA enfer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La joven ESTA cans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ESTA nerviosa tam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6 (1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7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34290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80880" y="4952880"/>
            <a:ext cx="82296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8:22:23Z</dcterms:created>
  <dc:creator>Helen Zumaeta</dc:creator>
  <dc:description/>
  <dc:language>en-US</dc:language>
  <cp:lastModifiedBy>Helen Zumaeta</cp:lastModifiedBy>
  <cp:lastPrinted>2013-04-03T13:59:53Z</cp:lastPrinted>
  <dcterms:modified xsi:type="dcterms:W3CDTF">2013-04-22T16:38:54Z</dcterms:modified>
  <cp:revision>19</cp:revision>
  <dc:subject/>
  <dc:title>Slide 1</dc:title>
</cp:coreProperties>
</file>